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24DA-AEB3-454B-914F-08B4AF52C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8077-8185-4B90-B53F-8EC62D13F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E74D-6434-46B2-915E-994F03E75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63520" y="681120"/>
            <a:ext cx="4538880" cy="3403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us and species are the two names used to identify specific organisms in the binomial system of classification. Division is used for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E71A-70EF-4AD8-8F94-FE60880A6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53A7-6BE9-4DA6-8463-364BF4BE4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278B-77DE-45C7-8D0B-4D54A5D2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AB5E-EF1E-4C39-9B77-5AE805321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699B-0618-420B-A3E6-BDF1C8F1F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AE37-553B-4626-AD3A-979A283D6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204A-C7EA-43CC-8B1A-CCB20186E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3E3E-3E1E-40EE-9149-2D4B99FE5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3D38-7640-47DA-8B79-8156C5265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0BE9-D5BE-485C-8949-5CF70164A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933A-2293-4664-85D8-996BF34C5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DEC3-46C3-4792-BB94-FC962256E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4F23-395A-4C57-8141-05B03F82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C149-5E6E-47A9-9D2A-BD42D8175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1B25-2B1C-46D9-8AC1-9C9B61EE4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320-7C70-4A96-88B6-071804C4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30B1-586E-4FD7-ADFA-02171450F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F3B-C130-42A5-9C51-A2CD9A87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2E4-C24D-4610-AF93-B13B4C48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166-142B-4AC1-889E-70DCBC91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96F-1E56-4759-BEC9-750F4772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BED5-0FD6-4C25-8920-A969D6F9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5050-6C0C-43D8-BE8A-A10EC086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9D5B-4D58-4061-BEF2-5654A2F0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8876-4D63-4C81-863D-B398C5A5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8F1A-0248-47E9-BEE8-3DAE264B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D6CF-C653-49EF-8261-D9263722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8DBB-AF26-47F9-BDF7-EE86B91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753-6A27-4B10-91BE-90FD9B37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0E4E-B4AA-4478-8AE8-DFF22FB4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2EB3-BA67-40B0-98E7-EEE1BD2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C7FA-D0D8-4BE9-BDD2-941BE67D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A052-ECDB-409E-B663-057FA3AB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AAFF-A19D-4E33-86AA-3A7FFE23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88D-4970-460F-A277-6CDACBF9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7AC-7CE2-4B6D-B551-9EE99DFD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3FD-1DF8-4D67-AE35-4C633373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964-3147-4A98-B6F3-C99824E3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8C9-075C-4BE0-BE6B-9C3C85FD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817-75CF-4BBA-A5B4-496DDDD4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FCC-C9AD-44D5-948E-FDBFCFA5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1FE5-B5D0-41E9-A300-4C80BE09ADF2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9B68-7052-4502-B937-1898B55379EA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7010280" y="668988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E8C0-4E5A-4E0A-A87A-98A3340BADA7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59688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3300"/>
                </a:solidFill>
                <a:latin typeface="Comic Sans MS"/>
              </a:rPr>
              <a:t>Classification</a:t>
            </a: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B7A7-82D6-4820-93E6-E1A927947EAF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347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Hierarchy-Taxonomic Groups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4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mai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ingdo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hylum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(Division – used for plants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as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de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mily     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u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peci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352680" y="1371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OADEST TAXON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36" name="Line 6"/>
          <p:cNvSpPr/>
          <p:nvPr/>
        </p:nvSpPr>
        <p:spPr>
          <a:xfrm flipH="1">
            <a:off x="2285640" y="16002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6477120" y="5334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1629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st Specific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39" name="Footer Placeholder 10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3DC8-BF05-4060-A06A-48B85D2BEC01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6840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552720" y="0"/>
            <a:ext cx="2590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mb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illip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oseber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up!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B875-09E5-4939-A1DC-EA2434536E2D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45" name="Picture 2" descr="01_01"/>
          <p:cNvPicPr/>
          <p:nvPr/>
        </p:nvPicPr>
        <p:blipFill>
          <a:blip r:embed="rId1"/>
          <a:srcRect l="0" t="3579" r="0" b="10418"/>
          <a:stretch/>
        </p:blipFill>
        <p:spPr>
          <a:xfrm>
            <a:off x="990720" y="838080"/>
            <a:ext cx="7238880" cy="532620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5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DC9E-B643-43CD-B046-F79024275EB8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Basis for Modern Taxonom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Homologous structur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same structure, different function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milar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embry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developmen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Molecular Similar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, </a:t>
            </a: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RN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mino aci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sequence of Protein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AE4B-C2D6-4888-B76F-75BE1239D02B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52" name="Picture 2" descr="Untitled-09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791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Homologous Structures (BONES in the FORELIMBS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ws Similarities in mammals.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54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3B7D-0D2D-4B35-B6ED-6A36BED6A4BD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Cladogra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7238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agram showing how organisms are related based on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shared, derived characteristic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uch as feathers, hair, or sca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cladogram_old"/>
          <p:cNvPicPr/>
          <p:nvPr/>
        </p:nvPicPr>
        <p:blipFill>
          <a:blip r:embed="rId1"/>
          <a:stretch/>
        </p:blipFill>
        <p:spPr>
          <a:xfrm>
            <a:off x="1143000" y="2133720"/>
            <a:ext cx="6858000" cy="4294080"/>
          </a:xfrm>
          <a:prstGeom prst="rect">
            <a:avLst/>
          </a:prstGeom>
          <a:ln w="0">
            <a:noFill/>
          </a:ln>
        </p:spPr>
      </p:pic>
      <p:sp>
        <p:nvSpPr>
          <p:cNvPr id="159" name="Footer Placeholder 7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6E83-55BF-4237-9743-DB23AD5B9DDE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61" name="Picture 2" descr="fig19_07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5008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4640" y="4800600"/>
            <a:ext cx="3048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mate Cladogram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98EC-F144-4476-92C9-BF8D3F099BD0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Dichotomous Keying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934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d to identify organism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racteristics given in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pair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Read both characteristic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either go to another set of characteristics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dentify the organis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6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1DA2-C2D4-450C-9EA8-D4BF37B613B4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Example of Dichotomous Ke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a Tentacles present – Go to 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b Tentacles absent – Go to 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a Eight Tentacles – Octop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b More than 8 tentacles – 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a Tentacles hang down – go to 4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b Tentacles upright–Sea Anemo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a Balloon-shaped body–Jellyfis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b Body NOT balloon-shaped - 5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8" descr="blue_ringed_octopus_art"/>
          <p:cNvPicPr/>
          <p:nvPr/>
        </p:nvPicPr>
        <p:blipFill>
          <a:blip r:embed="rId1"/>
          <a:stretch/>
        </p:blipFill>
        <p:spPr>
          <a:xfrm>
            <a:off x="5791320" y="1066680"/>
            <a:ext cx="3095640" cy="2324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Sea%2520Anemone"/>
          <p:cNvPicPr/>
          <p:nvPr/>
        </p:nvPicPr>
        <p:blipFill>
          <a:blip r:embed="rId2"/>
          <a:stretch/>
        </p:blipFill>
        <p:spPr>
          <a:xfrm>
            <a:off x="4343400" y="5029200"/>
            <a:ext cx="2743200" cy="164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jellyfish_1"/>
          <p:cNvPicPr/>
          <p:nvPr/>
        </p:nvPicPr>
        <p:blipFill>
          <a:blip r:embed="rId3"/>
          <a:stretch/>
        </p:blipFill>
        <p:spPr>
          <a:xfrm>
            <a:off x="7329600" y="3587760"/>
            <a:ext cx="1371600" cy="2209680"/>
          </a:xfrm>
          <a:prstGeom prst="rect">
            <a:avLst/>
          </a:prstGeom>
          <a:ln w="0">
            <a:noFill/>
          </a:ln>
        </p:spPr>
      </p:pic>
      <p:sp>
        <p:nvSpPr>
          <p:cNvPr id="174" name="Footer Placeholder 10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7010280" y="668988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5529-68C4-4544-A749-B35D7502E499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F9FB-8A2C-442A-83FA-D72F7753A6F7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13 bill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known species of organism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only 5% of al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ganisms that ever lived!!!!!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New organism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till being found and identified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Species of Organism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8D0A-4342-4F97-A0C2-60F597DD5728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What is Classification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467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Classific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the process of arranging organisms into orderly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ased on their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imilar characteristic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Taxonom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the science of classification.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Taxonomists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 scientists that identify &amp; name organism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3DBA-22F6-41AD-9A79-70D0C8384B0C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7072" t="10003" r="9093" b="5714"/>
          <a:stretch/>
        </p:blipFill>
        <p:spPr>
          <a:xfrm>
            <a:off x="1371600" y="1371600"/>
            <a:ext cx="6553080" cy="4657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Confusion in Using Different Languages for Nam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33D2-FA4E-4A3E-A6E9-6D519FF15BA7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7923" t="10146" r="8911" b="7247"/>
          <a:stretch/>
        </p:blipFill>
        <p:spPr>
          <a:xfrm>
            <a:off x="1371600" y="167652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Latin Names are Understood by all Taxonomist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5CFF-5C15-466E-8E36-8CEDD2A5FAE4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Carolus Linnaeus</a:t>
            </a:r>
            <a:br>
              <a:rPr sz="4400"/>
            </a:b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1707 – 1778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8th centur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axonomi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assified organisms by thei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truc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velope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aming syste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ill used toda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linneaus"/>
          <p:cNvPicPr/>
          <p:nvPr/>
        </p:nvPicPr>
        <p:blipFill>
          <a:blip r:embed="rId1"/>
          <a:stretch/>
        </p:blipFill>
        <p:spPr>
          <a:xfrm>
            <a:off x="4648320" y="1219320"/>
            <a:ext cx="2414520" cy="3633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ystem_natura"/>
          <p:cNvPicPr/>
          <p:nvPr/>
        </p:nvPicPr>
        <p:blipFill>
          <a:blip r:embed="rId2"/>
          <a:stretch/>
        </p:blipFill>
        <p:spPr>
          <a:xfrm rot="572400">
            <a:off x="6477120" y="2971440"/>
            <a:ext cx="212868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Footer Placeholder 8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756F-305E-4AFE-B532-3D438D39A8D4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Standardized Naming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inomial nomencla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omic Sans MS"/>
              </a:rPr>
              <a:t>Genus speci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Latin or Greek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Italiciz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in prin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Capitalize genu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but NOT speci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derlin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when writ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D:\chapter19\fig19_05_1.gif"/>
          <p:cNvPicPr/>
          <p:nvPr/>
        </p:nvPicPr>
        <p:blipFill>
          <a:blip r:embed="rId1"/>
          <a:stretch/>
        </p:blipFill>
        <p:spPr>
          <a:xfrm>
            <a:off x="5715000" y="838080"/>
            <a:ext cx="312408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5791320" y="12193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Turdus migratoriu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95880" y="6248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erican Robi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0" name="Footer Placeholder 9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E455-921C-4E34-B800-66E049C8EDA2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Binomial Nomenclatu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3" name="Picture 8" descr="three_bears"/>
          <p:cNvPicPr/>
          <p:nvPr/>
        </p:nvPicPr>
        <p:blipFill>
          <a:blip r:embed="rId1"/>
          <a:srcRect l="67089" t="0" r="1886" b="0"/>
          <a:stretch/>
        </p:blipFill>
        <p:spPr>
          <a:xfrm rot="21402600">
            <a:off x="304920" y="1143000"/>
            <a:ext cx="2943000" cy="360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three_bears"/>
          <p:cNvPicPr/>
          <p:nvPr/>
        </p:nvPicPr>
        <p:blipFill>
          <a:blip r:embed="rId2"/>
          <a:srcRect l="34385" t="0" r="35430" b="0"/>
          <a:stretch/>
        </p:blipFill>
        <p:spPr>
          <a:xfrm rot="193800">
            <a:off x="2971440" y="2286000"/>
            <a:ext cx="2863800" cy="360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three_bears"/>
          <p:cNvPicPr/>
          <p:nvPr/>
        </p:nvPicPr>
        <p:blipFill>
          <a:blip r:embed="rId3"/>
          <a:srcRect l="0" t="0" r="67929" b="0"/>
          <a:stretch/>
        </p:blipFill>
        <p:spPr>
          <a:xfrm rot="249600">
            <a:off x="5943240" y="1371600"/>
            <a:ext cx="2914560" cy="3448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8580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TWO are more closely related?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7" name="Footer Placeholder 9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FC41-638F-4A4B-8157-E5D1E07D8339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Classification Group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ax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ax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plural) is a category into which related organisms are place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ierarch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groups (taxa) from broadest to most specific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4:48:58Z</dcterms:created>
  <dc:creator>Cheryl Massengale</dc:creator>
  <dc:description/>
  <dc:language>en-US</dc:language>
  <cp:lastModifiedBy>USUARIO</cp:lastModifiedBy>
  <dcterms:modified xsi:type="dcterms:W3CDTF">2012-08-22T19:53:52Z</dcterms:modified>
  <cp:revision>57</cp:revision>
  <dc:subject/>
  <dc:title>Chapter 18 Classification</dc:title>
</cp:coreProperties>
</file>